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BCF54E-2CA5-460E-B074-87EB1F9040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7AFCA-CDCC-4DC6-8405-E2EE38388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130991-A39D-49E9-8602-753D463011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807C6A-E0E7-497A-B94B-6957B794DD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CD8035-B019-49B7-8F29-364B86911E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271951-8481-4BA0-AF69-91A5676F7A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B83211-6729-4108-AD38-F6C706F2DE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556DF1-D3AF-41C8-90B5-C920982870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A272DB-E5D5-4861-A894-D240CFC1D3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D03B37-B2B2-432F-B34B-BC0956693C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96895C-7BDF-4265-9FF6-5BEA025AAD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3C18DD-31B1-47F6-AE67-A176E6D18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4BA458-54F1-4248-94B6-7F98289729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538DDA-783B-4066-B80C-10ABEE41D0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0637F1-CD56-4B07-AC0A-F761CD74FB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417C02-E435-45B3-93CC-E145A276F1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1380A4-1310-4A26-ABA2-61E0D5DAB7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06423-63F9-4BB3-8B29-AF290067F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5B480-AD45-4AD4-BF37-82A78EC79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C5385-5A5D-4E4D-AE7F-18150B3EA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29D1F-2CBC-4EAA-A42C-51AC9D099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696B1-7D0D-4871-BEA0-A1DD67C5B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792B8-EA65-4D2B-87EF-11085BA41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41FE3-DD68-484D-A9C2-16A91F141F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7CCFF-E069-46D3-84B3-E40486EF7D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A643A-1F43-4809-8C65-AD5FBCF552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en.wikipedia.org/wiki/Vertical_jump" TargetMode="External"/><Relationship Id="rId2" Type="http://schemas.openxmlformats.org/officeDocument/2006/relationships/hyperlink" Target="http://en.wikipedia.org/wiki/Vertical_jump"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topendsports.com/testing/tests/longjump.htm"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en.wikipedia.org/wiki/Skipping_rope" TargetMode="External"/><Relationship Id="rId2" Type="http://schemas.openxmlformats.org/officeDocument/2006/relationships/hyperlink" Target="http://en.wikipedia.org/wiki/Skipping_rope"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topendsports.com/testing/tests/sit-and-reach.htm"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hose More Athletic Boys or Girls</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terials</a:t>
            </a:r>
            <a:endParaRPr b="0" lang="en-US" sz="4400" spc="-1" strike="noStrike">
              <a:solidFill>
                <a:srgbClr val="e3ebf1"/>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pe Measu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p Wat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mp Rop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 and Reach Box</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a:t>
            </a:r>
            <a:r>
              <a:rPr b="0" lang="en-US" sz="4400" spc="-1" strike="noStrike" baseline="30000">
                <a:solidFill>
                  <a:srgbClr val="e3ebf1"/>
                </a:solidFill>
                <a:latin typeface="Arial"/>
              </a:rPr>
              <a:t>th</a:t>
            </a:r>
            <a:r>
              <a:rPr b="0" lang="en-US" sz="4400" spc="-1" strike="noStrike">
                <a:solidFill>
                  <a:srgbClr val="e3ebf1"/>
                </a:solidFill>
                <a:latin typeface="Arial"/>
              </a:rPr>
              <a:t> Grade Boys Results</a:t>
            </a:r>
            <a:endParaRPr b="0" lang="en-US" sz="4400" spc="-1" strike="noStrike">
              <a:solidFill>
                <a:srgbClr val="e3ebf1"/>
              </a:solidFill>
              <a:latin typeface="Arial"/>
            </a:endParaRPr>
          </a:p>
        </p:txBody>
      </p:sp>
      <p:sp>
        <p:nvSpPr>
          <p:cNvPr id="103"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y Bagby</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 yard Dash: 3.38 sec, 3.53 sec, 3.38 sec</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nding Long Jump: 6ft 2in, 6ft 6in, 6ft 9in</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tical Jump: 22.4in, 20.7in, 22.7in</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Minute Jump Rope: 132 tim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t and Reach: 11in, 12in, 13in</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d Dierkson</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 yard Dash: 3.76 sec, 3.51 sec, 3.51 sec</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nding Long Jump: 7ft 2in, 7ft 2in, 7ft 1in</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tical Jump: 24.7in, 21.9in, 25.8in</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minute Jump Rope: 87 tim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t and Reach: 14.5in, 16in, 16.75in</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a:t>
            </a:r>
            <a:r>
              <a:rPr b="0" lang="en-US" sz="4400" spc="-1" strike="noStrike" baseline="30000">
                <a:solidFill>
                  <a:srgbClr val="e3ebf1"/>
                </a:solidFill>
                <a:latin typeface="Arial"/>
              </a:rPr>
              <a:t>th</a:t>
            </a:r>
            <a:r>
              <a:rPr b="0" lang="en-US" sz="4400" spc="-1" strike="noStrike">
                <a:solidFill>
                  <a:srgbClr val="e3ebf1"/>
                </a:solidFill>
                <a:latin typeface="Arial"/>
              </a:rPr>
              <a:t> Grade Girls Results</a:t>
            </a:r>
            <a:endParaRPr b="0" lang="en-US" sz="4400" spc="-1" strike="noStrike">
              <a:solidFill>
                <a:srgbClr val="e3ebf1"/>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chel Carter</a:t>
            </a:r>
            <a:endParaRPr b="0" lang="en-US" sz="20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 yard Dash: 4.62 sec, 4.25 sec, 4.28 sec</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ing Long Jump: 5ft 1in, 5ft 4in, 5ft 4in</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tical Jump: 14.3in, 15.8in, 15.5in</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Minute Jump Jump: 101 times</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t and Reach: 13.25in, 13.5in, 13.5in</a:t>
            </a:r>
            <a:endParaRPr b="0" lang="en-US" sz="18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bree Nuest</a:t>
            </a:r>
            <a:endParaRPr b="0" lang="en-US" sz="20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 yard Dash: 3.45 sec, 3.40 sec, 3.39 sec</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ing Long Jump: 6ft, 6ft 1in, 6ft 5in</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tical Jump: 20.8in, 20.8in, 20.7in</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Minute Jump Rope: 95 times</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t and Reach: 11in, 10in, 10.5i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ariables</a:t>
            </a:r>
            <a:endParaRPr b="0" lang="en-US" sz="4400" spc="-1" strike="noStrike">
              <a:solidFill>
                <a:srgbClr val="e3ebf1"/>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pendent: Gend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endent: Event resul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nclusion</a:t>
            </a:r>
            <a:endParaRPr b="0" lang="en-US" sz="4400" spc="-1" strike="noStrike">
              <a:solidFill>
                <a:srgbClr val="e3ebf1"/>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hypothesis was correct. Boys were better in each event except the 20 yard dash. If I could do the experiment again I would test more people and do more events to get better result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Possible Causes of Error</a:t>
            </a:r>
            <a:endParaRPr b="0" lang="en-US" sz="4400" spc="-1" strike="noStrike">
              <a:solidFill>
                <a:srgbClr val="e3ebf1"/>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d Timing on the 20 yard das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tical Jump may be off couple of inch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nger arms will help on the Sit and Rea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may not be able to jump rope wel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Possible Applications</a:t>
            </a:r>
            <a:endParaRPr b="0" lang="en-US" sz="4400" spc="-1" strike="noStrike">
              <a:solidFill>
                <a:srgbClr val="e3ebf1"/>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possible application could be the correlation between the different muscle groups to see if one person is fast and could jump but wasn’t the most flexible. But most of the testers were above average at the different eve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cknowledgements </a:t>
            </a:r>
            <a:endParaRPr b="0" lang="en-US" sz="4400" spc="-1" strike="noStrike">
              <a:solidFill>
                <a:srgbClr val="e3ebf1"/>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rs. Riffe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ster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roduction</a:t>
            </a:r>
            <a:endParaRPr b="0" lang="en-US" sz="4400" spc="-1" strike="noStrike">
              <a:solidFill>
                <a:srgbClr val="e3ebf1"/>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you ever wondered whose more athletic boys or girl?   I have wondered this and that is why I am testing the question.   I will set up a vast array of events that will challenge both males and females, so I can then record and evaluate the result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Hypothesis</a:t>
            </a:r>
            <a:endParaRPr b="0" lang="en-US" sz="4400" spc="-1" strike="noStrike">
              <a:solidFill>
                <a:srgbClr val="e3ebf1"/>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predict that the boys will be more athletic than the gir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20 Yard Dash</a:t>
            </a:r>
            <a:endParaRPr b="0" lang="en-US" sz="4400" spc="-1" strike="noStrike">
              <a:solidFill>
                <a:srgbClr val="e3ebf1"/>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s a measure of how fast you can run 20 yard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ertical Jump</a:t>
            </a:r>
            <a:endParaRPr b="0" lang="en-US" sz="4400" spc="-1" strike="noStrike">
              <a:solidFill>
                <a:srgbClr val="e3ebf1"/>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Arial"/>
              </a:rPr>
              <a:t>Vertical Jump is a measure of how high an individual or athlete can elevate off the ground from a standstil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Arial"/>
              </a:rPr>
              <a:t>The most common sports in which one's vertical jump is measured are track and field, basketball, football, and volleybal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Arial"/>
                <a:hlinkClick r:id="rId1"/>
              </a:rPr>
              <a:t>http://</a:t>
            </a:r>
            <a:r>
              <a:rPr b="0" lang="en-US" sz="3200" spc="-1" strike="noStrike" u="sng">
                <a:solidFill>
                  <a:srgbClr val="66ccff"/>
                </a:solidFill>
                <a:uFillTx/>
                <a:latin typeface="Arial"/>
                <a:hlinkClick r:id="rId2"/>
              </a:rPr>
              <a:t>en.wikipedia.org/wiki/Vertical_jump</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tanding Broad Jump</a:t>
            </a:r>
            <a:endParaRPr b="0" lang="en-US" sz="4400" spc="-1" strike="noStrike">
              <a:solidFill>
                <a:srgbClr val="e3ebf1"/>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st of how far you can jump from a standstill</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jump is measured from the take-off line to the nearest point touched by any part of the body at the end of the jump</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s purpose is to measure the explosive power of the legs</a:t>
            </a:r>
            <a:endParaRPr b="0" lang="en-US" sz="3200" spc="-1" strike="noStrike">
              <a:solidFill>
                <a:srgbClr val="ffffff"/>
              </a:solidFill>
              <a:latin typeface="Arial"/>
            </a:endParaRPr>
          </a:p>
          <a:p>
            <a:pPr marL="343080" indent="-343080">
              <a:lnSpc>
                <a:spcPct val="90000"/>
              </a:lnSpc>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Arial"/>
                <a:hlinkClick r:id="rId1"/>
              </a:rPr>
              <a:t>http://www.topendsports.com/testing/tests/longjump.htm</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Jump Rope</a:t>
            </a:r>
            <a:endParaRPr b="0" lang="en-US" sz="4400" spc="-1" strike="noStrike">
              <a:solidFill>
                <a:srgbClr val="e3ebf1"/>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s used to test agility and enduran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mping Rope enhances coordination, agility, quickness, footwork, enduranc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Arial"/>
                <a:hlinkClick r:id="rId1"/>
              </a:rPr>
              <a:t>http://</a:t>
            </a:r>
            <a:r>
              <a:rPr b="0" lang="en-US" sz="3200" spc="-1" strike="noStrike" u="sng">
                <a:solidFill>
                  <a:srgbClr val="66ccff"/>
                </a:solidFill>
                <a:uFillTx/>
                <a:latin typeface="Arial"/>
                <a:hlinkClick r:id="rId2"/>
              </a:rPr>
              <a:t>en.wikipedia.org/wiki/Skipping_rope</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it and Reach</a:t>
            </a:r>
            <a:endParaRPr b="0" lang="en-US" sz="4400" spc="-1" strike="noStrike">
              <a:solidFill>
                <a:srgbClr val="e3ebf1"/>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t and reach test is a common measure of flexibility, and specifically measures the flexibility of the lower back and hamstring muscles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core is recorded to the nearest centimeter or half inch as the distance reached by the hand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iations in arm, leg and trunk length can make comparisons between individuals misleading </a:t>
            </a:r>
            <a:endParaRPr b="0" lang="en-US" sz="2800" spc="-1" strike="noStrike">
              <a:solidFill>
                <a:srgbClr val="ffffff"/>
              </a:solidFill>
              <a:latin typeface="Arial"/>
            </a:endParaRPr>
          </a:p>
        </p:txBody>
      </p:sp>
      <p:sp>
        <p:nvSpPr>
          <p:cNvPr id="97" name=""/>
          <p:cNvSpPr/>
          <p:nvPr/>
        </p:nvSpPr>
        <p:spPr>
          <a:xfrm>
            <a:off x="914400" y="5334120"/>
            <a:ext cx="7086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ccff"/>
                </a:solidFill>
                <a:uFillTx/>
                <a:latin typeface="Arial"/>
                <a:hlinkClick r:id="rId1"/>
              </a:rPr>
              <a:t>http://www.topendsports.com/testing/tests/sit-and-reach.ht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Procedure </a:t>
            </a:r>
            <a:endParaRPr b="0" lang="en-US" sz="4400" spc="-1" strike="noStrike">
              <a:solidFill>
                <a:srgbClr val="e3ebf1"/>
              </a:solidFill>
              <a:latin typeface="Arial"/>
            </a:endParaRPr>
          </a:p>
        </p:txBody>
      </p:sp>
      <p:sp>
        <p:nvSpPr>
          <p:cNvPr id="99"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ather Materials</a:t>
            </a:r>
            <a:endParaRPr b="0" lang="en-US" sz="2400" spc="-1" strike="noStrike">
              <a:solidFill>
                <a:srgbClr val="ffffff"/>
              </a:solidFill>
              <a:latin typeface="Arial"/>
            </a:endParaRPr>
          </a:p>
          <a:p>
            <a:pPr marL="609480" indent="-60948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all people on their vertical jump (Event 1)</a:t>
            </a:r>
            <a:endParaRPr b="0" lang="en-US" sz="2400" spc="-1" strike="noStrike">
              <a:solidFill>
                <a:srgbClr val="ffffff"/>
              </a:solidFill>
              <a:latin typeface="Arial"/>
            </a:endParaRPr>
          </a:p>
          <a:p>
            <a:pPr marL="609480" indent="-60948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rd Results</a:t>
            </a:r>
            <a:endParaRPr b="0" lang="en-US" sz="2400" spc="-1" strike="noStrike">
              <a:solidFill>
                <a:srgbClr val="ffffff"/>
              </a:solidFill>
              <a:latin typeface="Arial"/>
            </a:endParaRPr>
          </a:p>
          <a:p>
            <a:pPr marL="609480" indent="-60948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all people on 40 yd dash (Event 2)</a:t>
            </a:r>
            <a:endParaRPr b="0" lang="en-US" sz="2400" spc="-1" strike="noStrike">
              <a:solidFill>
                <a:srgbClr val="ffffff"/>
              </a:solidFill>
              <a:latin typeface="Arial"/>
            </a:endParaRPr>
          </a:p>
          <a:p>
            <a:pPr marL="609480" indent="-60948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rd Results</a:t>
            </a:r>
            <a:endParaRPr b="0" lang="en-US" sz="2400" spc="-1" strike="noStrike">
              <a:solidFill>
                <a:srgbClr val="ffffff"/>
              </a:solidFill>
              <a:latin typeface="Arial"/>
            </a:endParaRPr>
          </a:p>
          <a:p>
            <a:pPr marL="609480" indent="-60948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all people in the 3 cone drill (Event 3)</a:t>
            </a:r>
            <a:endParaRPr b="0" lang="en-US" sz="2400" spc="-1" strike="noStrike">
              <a:solidFill>
                <a:srgbClr val="ffffff"/>
              </a:solidFill>
              <a:latin typeface="Arial"/>
            </a:endParaRPr>
          </a:p>
          <a:p>
            <a:pPr marL="609480" indent="-60948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rd Results</a:t>
            </a:r>
            <a:endParaRPr b="0" lang="en-US" sz="2400" spc="-1" strike="noStrike">
              <a:solidFill>
                <a:srgbClr val="ffffff"/>
              </a:solidFill>
              <a:latin typeface="Arial"/>
            </a:endParaRPr>
          </a:p>
          <a:p>
            <a:pPr marL="609480" indent="-60948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all people in the Standing Broad Jump (Event 4)</a:t>
            </a:r>
            <a:endParaRPr b="0" lang="en-US" sz="2400" spc="-1" strike="noStrike">
              <a:solidFill>
                <a:srgbClr val="ffffff"/>
              </a:solidFill>
              <a:latin typeface="Arial"/>
            </a:endParaRPr>
          </a:p>
          <a:p>
            <a:pPr marL="609480" indent="-60948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rd Results</a:t>
            </a:r>
            <a:endParaRPr b="0" lang="en-US" sz="2400" spc="-1" strike="noStrike">
              <a:solidFill>
                <a:srgbClr val="ffffff"/>
              </a:solidFill>
              <a:latin typeface="Arial"/>
            </a:endParaRPr>
          </a:p>
          <a:p>
            <a:pPr marL="609480" indent="-60948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all people in the 1 minute Jump Rope (Event 5)</a:t>
            </a:r>
            <a:endParaRPr b="0" lang="en-US" sz="2400" spc="-1" strike="noStrike">
              <a:solidFill>
                <a:srgbClr val="ffffff"/>
              </a:solidFill>
              <a:latin typeface="Arial"/>
            </a:endParaRPr>
          </a:p>
          <a:p>
            <a:pPr marL="609480" indent="-60948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rd Results</a:t>
            </a:r>
            <a:endParaRPr b="0" lang="en-US" sz="2400" spc="-1" strike="noStrike">
              <a:solidFill>
                <a:srgbClr val="ffffff"/>
              </a:solidFill>
              <a:latin typeface="Arial"/>
            </a:endParaRPr>
          </a:p>
          <a:p>
            <a:pPr marL="609480" indent="-60948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e Resul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D376</cp:lastModifiedBy>
  <dcterms:modified xsi:type="dcterms:W3CDTF">2010-02-22T20:18:09Z</dcterms:modified>
  <cp:revision>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